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F48-D966-457C-B17E-C85F8510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365-1CBC-4E77-B3A5-AB18207E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364-E573-418B-B5F8-C28A7AE7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8D7-99E8-423D-BFF1-6F3F3DE9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3AE-8EDD-4CE1-859A-264BE1C2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BD9-F495-4FF5-8D22-CC286B39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987-9D7E-49D7-8D10-0739A9FE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484-086A-4DE8-8B39-B870A64B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4DC-A7AF-459D-9E59-83FF0F79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569-2FAB-45AC-9E4D-595739A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0CB-37FC-468D-B6C3-D3BC49D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FFE-1AC8-4727-8BF0-BC614E2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956A-4B0D-4E61-A69E-B04CCFF00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hina-mike.com/wp-content/uploads/2011/01/chiang-kai-shek-mao-zedong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HINA’S ROAD TO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Modern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mmunists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Peasants revolted (sound familiar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Communist Party   [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Mao Zedong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–son of peasants]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and Red Army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made first attempt to take over Nationalist Party – they fa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Nationalists vs. Commu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Chiang Kai-shek began a series of military campaigns to crush the Communis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Extermination Campaign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” killed 6,000 suspected Communists in 3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265104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mmunists Surrou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19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Chiang Kai-shek and the Nationalist Army surround Mao and the Red Ar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8574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HE LONG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Mao and the Red Army retreated and bega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Long March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– one of greatest escap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2955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he Long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Retreated to North Central China to escape the Nationa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100,000 men, women an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6,000 mile journey lasting 1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Crossed 18 mountain ranges, dozens of rivers, and swa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Fought hunger and diseases while fighting off the Nationa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Approximately one-fifth of the marchers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World Wa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WWII – Japan invaded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Mao and Chiang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became uneasy allies against the Japanese (a common enem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The enemy of my enemy is my frien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4438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World War II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WWII ended (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Civil war”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between Chiang (Nationalists) and Mao (Communists) resu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chiang kai shek mao zedong 234x300 THE REPUBLIC OF CHINA [ 1912 1949 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600200"/>
            <a:ext cx="3016080" cy="387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3513000">
            <a:off x="2117880" y="199620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3513000">
            <a:off x="2148120" y="275796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3513000">
            <a:off x="2117880" y="352008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3513000">
            <a:off x="2117880" y="428220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3513000">
            <a:off x="2148120" y="519660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608800"/>
            <a:ext cx="40384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SHAZA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nditions in China Wor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China’s poverty worsened as a result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WWII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Many Chinese blamed bad conditions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Chiang and the Nationalists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Lacking popular support and weakened by corruption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Nationalist Party collapsed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Chiang and the Nationalist government flee to off-shore island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Taiwan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7292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he People’s Republic of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October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fornian FB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, 19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Mao Zedong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, Chairman of China’s Communist Party proclaims the n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People’s Republic of China</a:t>
            </a: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1600’s - 19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Manchus (people of Manchuria – NE China) invaded China &amp; seized power from the Mi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They took a Chinese name for their dynasty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Qi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9052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he Qi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Empress Dowager Cixi presented China with a weak centr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She died in 1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Puyi, at age two, was appointed the suc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Puyi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became the last emperor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Dynasty will fall 19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2249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Sun Yixian(Yats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Sun Yatsen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led the Nationalist Party (also called Kuomint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The Nationalists wanted to modernize and democratize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02280" y="1600200"/>
            <a:ext cx="312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fornian FB"/>
              </a:rPr>
              <a:t>Goals of the Nation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Rid China of foreign 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Set up a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Improve life for all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1912-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Sun lacked authority &amp; military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He turned over the presidency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Yuan Shikai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, a powerful ge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Yu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betrayed the democratic ideals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 of Sun and became a dict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Yuan died in 1916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military generals took control.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Violence and peasant hardship continued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10080" y="1962000"/>
            <a:ext cx="23814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AFTER WWI – The Nation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Chiang Kai-shek (Jiang Jieshi)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joins Sun and the Nationalist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Promoted economic development: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built schools and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D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little to improve living standards of the peas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3848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1925 –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fornian FB"/>
              </a:rPr>
              <a:t>Sun Yatsen</a:t>
            </a: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 d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321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013280" cy="300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51520" y="51814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eral Pro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54320" y="518148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Yatsen 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ananmen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Nationalists Tak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19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Chiang Kai-shek and the Nationalist army def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the warlords (military generals)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and took control of Ch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28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9:07:03Z</dcterms:created>
  <dc:creator>MCPASD</dc:creator>
  <dc:description/>
  <dc:language>en-US</dc:language>
  <cp:lastModifiedBy>MCPASD</cp:lastModifiedBy>
  <dcterms:modified xsi:type="dcterms:W3CDTF">2012-05-02T14:00:12Z</dcterms:modified>
  <cp:revision>26</cp:revision>
  <dc:subject/>
  <dc:title>CHINA’S ROAD TO COMMUNISM</dc:title>
</cp:coreProperties>
</file>